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8C65-B042-4394-A5DD-FDB8EE6EAB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D27C-7CCC-49DB-A10E-81A3CD7720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E438-F85E-4DA9-83E8-F488787AFF6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F363-C11F-42D7-B2E1-73F6E70754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3B63-CF80-4889-B2A8-1EE463FF37F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F01-AAA3-4DC6-AA95-364285905C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27C3-2915-49F9-BF77-9D8CB5DBAEC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8BAE-ADE8-4AF2-A116-132718AA3F0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B38E-D005-4ED6-A2A7-3E7ED5AA93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10AE-5BC5-4254-A73C-26DB553EDA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D003-7126-46CC-BE28-351E9E393A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B1F-28A0-4A19-B75C-4A7586AD6F8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FACC-9491-4CF6-A7DE-C9AA98FDC9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C473-CD8E-4C0A-AE70-07AC7F69E6B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40D2-916C-4B19-9592-C66B56DFE3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3E78-6324-45D8-92C9-3523DBF3B5B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B8C1-D5B2-466B-B2AB-C48D882DDFF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90B9-610A-4845-AA53-B8F6245EF9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92A6-7345-4ED1-BC86-719CFE40E4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F02C-82D0-490C-8BCB-C18BF7596F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841-9D45-4146-A896-DD0B1E7347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063-C28A-4C87-8DD7-0BA2E51738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3E0B-1A20-47D7-B5AC-9D8B33548C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9C1E-6688-410E-BDF3-46044B6A75D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997F-95DF-493C-BCB6-068D472D0AF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BD4A-EABB-4875-8881-EE1FAD7A6D6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458B-A08A-4A62-A6BA-D96E92849B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DD59-AEA7-4672-AB39-ED6086AF99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7735-C798-4841-A7D1-060D789F4E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B05D-BB32-4B5E-BC8F-DDB0DB8032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D9A-C692-4699-B88E-DB0853F5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DF5-C9C1-42F6-90D5-7CED5748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309-17E5-42FA-9A7A-5F3490AC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DBE-6985-48E3-A51C-D247F150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EF7-3BFB-4461-828D-A87C80CA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F3E-9517-4BD3-A3DB-A5893302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346-9F8D-4C7E-9A1E-F73EECF9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B6D-CF2C-4E35-87F5-69B5979E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9F9-A8D3-459E-B54D-37E81F28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AF8-FB63-4DF0-85E0-69B1F991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64C-8759-4495-958C-E8B4B81A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94A-61A9-4D31-BB45-786230DD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27B5-68D4-493F-8B1D-B5A8B597503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6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49" name="Group 10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50" name="Oval 11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2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9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53" name="Oval 5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8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3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56" name="Oval 14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5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1628280"/>
            <a:ext cx="8280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ENTRO ANTIVIOL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entro antiviolenza  nasce come risposta alle numerose richieste di aiuto da parte di donne e minori che subiscono violenza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copo  è quello 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ostenere ed accompagnare la donna e il minore durante tutto il percorso di uscita dalla viol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 e sensibilizzare la cittadinanza sul tema della violenza sulle donne e i min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logo provincia"/>
          <p:cNvPicPr/>
          <p:nvPr/>
        </p:nvPicPr>
        <p:blipFill>
          <a:blip r:embed="rId1"/>
          <a:stretch/>
        </p:blipFill>
        <p:spPr>
          <a:xfrm>
            <a:off x="1692360" y="333360"/>
            <a:ext cx="5938920" cy="64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165564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4"/>
          <p:cNvGrpSpPr/>
          <p:nvPr/>
        </p:nvGrpSpPr>
        <p:grpSpPr>
          <a:xfrm>
            <a:off x="-2560680" y="-1256760"/>
            <a:ext cx="13646880" cy="10344600"/>
            <a:chOff x="-2560680" y="-1256760"/>
            <a:chExt cx="13646880" cy="10344600"/>
          </a:xfrm>
        </p:grpSpPr>
        <p:grpSp>
          <p:nvGrpSpPr>
            <p:cNvPr id="164" name="Group 5"/>
            <p:cNvGrpSpPr/>
            <p:nvPr/>
          </p:nvGrpSpPr>
          <p:grpSpPr>
            <a:xfrm>
              <a:off x="-2560680" y="-1256760"/>
              <a:ext cx="5191200" cy="5193360"/>
              <a:chOff x="-2560680" y="-1256760"/>
              <a:chExt cx="5191200" cy="5193360"/>
            </a:xfrm>
          </p:grpSpPr>
          <p:sp>
            <p:nvSpPr>
              <p:cNvPr id="165" name="Oval 6"/>
              <p:cNvSpPr/>
              <p:nvPr/>
            </p:nvSpPr>
            <p:spPr>
              <a:xfrm rot="2735400">
                <a:off x="-183672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7"/>
              <p:cNvSpPr/>
              <p:nvPr/>
            </p:nvSpPr>
            <p:spPr>
              <a:xfrm rot="2735400">
                <a:off x="-125892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8"/>
            <p:cNvGrpSpPr/>
            <p:nvPr/>
          </p:nvGrpSpPr>
          <p:grpSpPr>
            <a:xfrm>
              <a:off x="4175280" y="2637000"/>
              <a:ext cx="6910920" cy="6450840"/>
              <a:chOff x="4175280" y="2637000"/>
              <a:chExt cx="6910920" cy="6450840"/>
            </a:xfrm>
          </p:grpSpPr>
          <p:sp>
            <p:nvSpPr>
              <p:cNvPr id="168" name="Oval 9"/>
              <p:cNvSpPr/>
              <p:nvPr/>
            </p:nvSpPr>
            <p:spPr>
              <a:xfrm>
                <a:off x="417528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0"/>
              <p:cNvSpPr/>
              <p:nvPr/>
            </p:nvSpPr>
            <p:spPr>
              <a:xfrm>
                <a:off x="524016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1"/>
            <p:cNvGrpSpPr/>
            <p:nvPr/>
          </p:nvGrpSpPr>
          <p:grpSpPr>
            <a:xfrm>
              <a:off x="7179480" y="5209560"/>
              <a:ext cx="1120320" cy="1120320"/>
              <a:chOff x="7179480" y="5209560"/>
              <a:chExt cx="1120320" cy="1120320"/>
            </a:xfrm>
          </p:grpSpPr>
          <p:sp>
            <p:nvSpPr>
              <p:cNvPr id="171" name="Oval 12"/>
              <p:cNvSpPr/>
              <p:nvPr/>
            </p:nvSpPr>
            <p:spPr>
              <a:xfrm rot="2735400">
                <a:off x="734328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13"/>
              <p:cNvSpPr/>
              <p:nvPr/>
            </p:nvSpPr>
            <p:spPr>
              <a:xfrm rot="2735400">
                <a:off x="746568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"/>
          <p:cNvSpPr txBox="1"/>
          <p:nvPr/>
        </p:nvSpPr>
        <p:spPr>
          <a:xfrm>
            <a:off x="468000" y="981000"/>
            <a:ext cx="8435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STAFF E OPERATORI COINVOL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808080"/>
                </a:solidFill>
                <a:uFillTx/>
                <a:latin typeface="Arial"/>
              </a:rPr>
              <a:t>ENTE CAPOFILA PROVINCIA MEDIO CAMPID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808080"/>
                </a:solidFill>
                <a:uFillTx/>
                <a:latin typeface="Arial"/>
              </a:rPr>
              <a:t>PER I DISTRETTI SOCIOSANITARI GUSPINI E SANL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Wingdings 3"/>
                <a:ea typeface="Wingdings 3"/>
              </a:rPr>
              <a:t>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estione appalto Cooperativa La Clessi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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QUI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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pervisore coordina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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ue coordinatrici assistenti soci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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ue psicolog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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 avvoc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(Tutto il personale coinvolto è di sesso femminile così come previsto dalla legge region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</a:t>
            </a:r>
            <a:r>
              <a:rPr b="1" lang="it-IT" sz="2000" spc="-1" strike="noStrike">
                <a:solidFill>
                  <a:srgbClr val="ff0066"/>
                </a:solidFill>
                <a:latin typeface="Arial Rounded MT Bold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ori dei servizi socio-sanitari, forze dell’ordine, scu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logo provincia"/>
          <p:cNvPicPr/>
          <p:nvPr/>
        </p:nvPicPr>
        <p:blipFill>
          <a:blip r:embed="rId1"/>
          <a:stretch/>
        </p:blipFill>
        <p:spPr>
          <a:xfrm>
            <a:off x="1803240" y="333360"/>
            <a:ext cx="5793120" cy="574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201636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-2308320" y="-1472400"/>
            <a:ext cx="13646520" cy="10344240"/>
            <a:chOff x="-2308320" y="-1472400"/>
            <a:chExt cx="13646520" cy="10344240"/>
          </a:xfrm>
        </p:grpSpPr>
        <p:grpSp>
          <p:nvGrpSpPr>
            <p:cNvPr id="177" name="Group 5"/>
            <p:cNvGrpSpPr/>
            <p:nvPr/>
          </p:nvGrpSpPr>
          <p:grpSpPr>
            <a:xfrm>
              <a:off x="-2308320" y="-1472400"/>
              <a:ext cx="5190840" cy="5193000"/>
              <a:chOff x="-2308320" y="-1472400"/>
              <a:chExt cx="5190840" cy="5193000"/>
            </a:xfrm>
          </p:grpSpPr>
          <p:sp>
            <p:nvSpPr>
              <p:cNvPr id="178" name="Oval 6"/>
              <p:cNvSpPr/>
              <p:nvPr/>
            </p:nvSpPr>
            <p:spPr>
              <a:xfrm rot="2735400">
                <a:off x="-1584360" y="-675360"/>
                <a:ext cx="3743640" cy="359928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7"/>
              <p:cNvSpPr/>
              <p:nvPr/>
            </p:nvSpPr>
            <p:spPr>
              <a:xfrm rot="2735400">
                <a:off x="-1007280" y="-121320"/>
                <a:ext cx="2588040" cy="248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4427640" y="2421000"/>
              <a:ext cx="6910560" cy="6450840"/>
              <a:chOff x="4427640" y="2421000"/>
              <a:chExt cx="6910560" cy="6450840"/>
            </a:xfrm>
          </p:grpSpPr>
          <p:sp>
            <p:nvSpPr>
              <p:cNvPr id="181" name="Oval 9"/>
              <p:cNvSpPr/>
              <p:nvPr/>
            </p:nvSpPr>
            <p:spPr>
              <a:xfrm>
                <a:off x="4427640" y="2421000"/>
                <a:ext cx="691056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10"/>
              <p:cNvSpPr/>
              <p:nvPr/>
            </p:nvSpPr>
            <p:spPr>
              <a:xfrm>
                <a:off x="5492520" y="3414960"/>
                <a:ext cx="477792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11"/>
            <p:cNvGrpSpPr/>
            <p:nvPr/>
          </p:nvGrpSpPr>
          <p:grpSpPr>
            <a:xfrm>
              <a:off x="7431840" y="4993560"/>
              <a:ext cx="1120320" cy="1119960"/>
              <a:chOff x="7431840" y="4993560"/>
              <a:chExt cx="1120320" cy="1119960"/>
            </a:xfrm>
          </p:grpSpPr>
          <p:sp>
            <p:nvSpPr>
              <p:cNvPr id="184" name="Oval 12"/>
              <p:cNvSpPr/>
              <p:nvPr/>
            </p:nvSpPr>
            <p:spPr>
              <a:xfrm rot="2735400">
                <a:off x="7595640" y="5157360"/>
                <a:ext cx="792000" cy="79200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3"/>
              <p:cNvSpPr/>
              <p:nvPr/>
            </p:nvSpPr>
            <p:spPr>
              <a:xfrm rot="2735400">
                <a:off x="7718040" y="5279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 txBox="1"/>
          <p:nvPr/>
        </p:nvSpPr>
        <p:spPr>
          <a:xfrm>
            <a:off x="394920" y="1196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LAVORO DI RETE E DI SENSIBILIZZAZIONE CON LE S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Nel corso dei primi mesi -da ottobre 2010 a maggio 2011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li operatori del Centro Antiviolen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urante le assemblee d’istituto degli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hanno svolto un’attività di sensibi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ll’interno di cinque dei sei istituti superiori della provi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noltre nel mese di Novembre 2011 si è svolto un Sem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ivolto agli Studenti degli Istituti Superi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Destinatari </a:t>
            </a:r>
            <a:r>
              <a:rPr b="1" lang="it-IT" sz="2000" spc="-1" strike="noStrike">
                <a:solidFill>
                  <a:srgbClr val="ff0066"/>
                </a:solidFill>
                <a:latin typeface="Arial Rounded MT Bold"/>
              </a:rPr>
              <a:t>: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ragazzi delle scu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Finalità </a:t>
            </a:r>
            <a:r>
              <a:rPr b="1" lang="it-IT" sz="2000" spc="-1" strike="noStrike">
                <a:solidFill>
                  <a:srgbClr val="ff0066"/>
                </a:solidFill>
                <a:latin typeface="Arial Rounded MT Bold"/>
              </a:rPr>
              <a:t>:</a:t>
            </a:r>
            <a:r>
              <a:rPr b="1" lang="it-IT" sz="2000" spc="-1" strike="noStrike">
                <a:solidFill>
                  <a:srgbClr val="ff0066"/>
                </a:solidFill>
                <a:latin typeface="Arial Rounded MT Bold"/>
              </a:rPr>
              <a:t>	</a:t>
            </a:r>
            <a:r>
              <a:rPr b="1" lang="it-IT" sz="2000" spc="-1" strike="noStrike">
                <a:solidFill>
                  <a:srgbClr val="ff0066"/>
                </a:solidFill>
                <a:latin typeface="Arial Rounded MT Bold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Webdings"/>
                <a:ea typeface="Webdings"/>
              </a:rPr>
              <a:t></a:t>
            </a:r>
            <a:r>
              <a:rPr b="1" lang="it-IT" sz="2000" spc="-1" strike="noStrike">
                <a:solidFill>
                  <a:srgbClr val="ff0066"/>
                </a:solidFill>
                <a:latin typeface="Arial Rounded MT Bol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formazione sul tema della violenza alle donne e 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inori e sull' attività del centro antiviolen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Webdings"/>
                <a:ea typeface="Webdings"/>
              </a:rPr>
              <a:t>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mozione e sensibilizzazione di una cultur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petto tra i generi maschile e femmin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logo provincia"/>
          <p:cNvPicPr/>
          <p:nvPr/>
        </p:nvPicPr>
        <p:blipFill>
          <a:blip r:embed="rId1"/>
          <a:stretch/>
        </p:blipFill>
        <p:spPr>
          <a:xfrm>
            <a:off x="1547640" y="260280"/>
            <a:ext cx="6264360" cy="749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"/>
          <p:cNvPicPr/>
          <p:nvPr/>
        </p:nvPicPr>
        <p:blipFill>
          <a:blip r:embed="rId2"/>
          <a:stretch/>
        </p:blipFill>
        <p:spPr>
          <a:xfrm>
            <a:off x="539640" y="6237360"/>
            <a:ext cx="216072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4"/>
          <p:cNvGrpSpPr/>
          <p:nvPr/>
        </p:nvGrpSpPr>
        <p:grpSpPr>
          <a:xfrm>
            <a:off x="-2524320" y="-1256400"/>
            <a:ext cx="13646520" cy="10344240"/>
            <a:chOff x="-2524320" y="-1256400"/>
            <a:chExt cx="13646520" cy="10344240"/>
          </a:xfrm>
        </p:grpSpPr>
        <p:grpSp>
          <p:nvGrpSpPr>
            <p:cNvPr id="190" name="Group 5"/>
            <p:cNvGrpSpPr/>
            <p:nvPr/>
          </p:nvGrpSpPr>
          <p:grpSpPr>
            <a:xfrm>
              <a:off x="-2524320" y="-1256400"/>
              <a:ext cx="5190840" cy="5193000"/>
              <a:chOff x="-2524320" y="-1256400"/>
              <a:chExt cx="5190840" cy="5193000"/>
            </a:xfrm>
          </p:grpSpPr>
          <p:sp>
            <p:nvSpPr>
              <p:cNvPr id="191" name="Oval 6"/>
              <p:cNvSpPr/>
              <p:nvPr/>
            </p:nvSpPr>
            <p:spPr>
              <a:xfrm rot="2735400">
                <a:off x="-1800360" y="-459360"/>
                <a:ext cx="3743640" cy="359928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7"/>
              <p:cNvSpPr/>
              <p:nvPr/>
            </p:nvSpPr>
            <p:spPr>
              <a:xfrm rot="2735400">
                <a:off x="-1222920" y="94320"/>
                <a:ext cx="2588040" cy="248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"/>
            <p:cNvGrpSpPr/>
            <p:nvPr/>
          </p:nvGrpSpPr>
          <p:grpSpPr>
            <a:xfrm>
              <a:off x="4211640" y="2637000"/>
              <a:ext cx="6910560" cy="6450840"/>
              <a:chOff x="4211640" y="2637000"/>
              <a:chExt cx="6910560" cy="6450840"/>
            </a:xfrm>
          </p:grpSpPr>
          <p:sp>
            <p:nvSpPr>
              <p:cNvPr id="194" name="Oval 9"/>
              <p:cNvSpPr/>
              <p:nvPr/>
            </p:nvSpPr>
            <p:spPr>
              <a:xfrm>
                <a:off x="4211640" y="2637000"/>
                <a:ext cx="691056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0"/>
              <p:cNvSpPr/>
              <p:nvPr/>
            </p:nvSpPr>
            <p:spPr>
              <a:xfrm>
                <a:off x="5276520" y="3630960"/>
                <a:ext cx="477792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1"/>
            <p:cNvGrpSpPr/>
            <p:nvPr/>
          </p:nvGrpSpPr>
          <p:grpSpPr>
            <a:xfrm>
              <a:off x="7215840" y="5209560"/>
              <a:ext cx="1120320" cy="1119960"/>
              <a:chOff x="7215840" y="5209560"/>
              <a:chExt cx="1120320" cy="1119960"/>
            </a:xfrm>
          </p:grpSpPr>
          <p:sp>
            <p:nvSpPr>
              <p:cNvPr id="197" name="Oval 12"/>
              <p:cNvSpPr/>
              <p:nvPr/>
            </p:nvSpPr>
            <p:spPr>
              <a:xfrm rot="2735400">
                <a:off x="7379640" y="5373360"/>
                <a:ext cx="792000" cy="79200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3"/>
              <p:cNvSpPr/>
              <p:nvPr/>
            </p:nvSpPr>
            <p:spPr>
              <a:xfrm rot="2735400">
                <a:off x="750204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 txBox="1"/>
          <p:nvPr/>
        </p:nvSpPr>
        <p:spPr>
          <a:xfrm>
            <a:off x="394920" y="2133360"/>
            <a:ext cx="84358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NELLO STESSO PERI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E’ STATA DISEGNATA UNA MAP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EGLI SPORTELLI SCOLASTICI D’ASCO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RESEN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OLTRE CHE NEGLI ISTITUTI SUPERIOR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NCHE NELLE SCUOLE SECONDARIE DI I G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EL TERRITORIO PROVINC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4" descr="logo provincia"/>
          <p:cNvPicPr/>
          <p:nvPr/>
        </p:nvPicPr>
        <p:blipFill>
          <a:blip r:embed="rId1"/>
          <a:stretch/>
        </p:blipFill>
        <p:spPr>
          <a:xfrm>
            <a:off x="1814400" y="571680"/>
            <a:ext cx="6142320" cy="84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684360" y="6093000"/>
            <a:ext cx="201600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203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204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207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210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 txBox="1"/>
          <p:nvPr/>
        </p:nvSpPr>
        <p:spPr>
          <a:xfrm>
            <a:off x="39492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SEDI SPORTELLO D’ASCO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Distretto sociosanitario Guspin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uspini </a:t>
            </a:r>
            <a:r>
              <a:rPr b="1" lang="it-IT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vizio Sociale via Tor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an Gavino Monreale </a:t>
            </a:r>
            <a:r>
              <a:rPr b="1" lang="it-IT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Servizio Sociale via Pasc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onnosfanadiga </a:t>
            </a:r>
            <a:r>
              <a:rPr b="1" lang="it-IT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iale Regina E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Distretto sociosanitario Sanlu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unamatrona </a:t>
            </a:r>
            <a:r>
              <a:rPr b="1" lang="it-IT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Centro di aggregazione via Sa Turri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renti </a:t>
            </a:r>
            <a:r>
              <a:rPr b="1" lang="it-IT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Casa Corda via Morandi –  attualmente (dall’11.01.2012) - presso ex                                     Mattatoio via Na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ramanna </a:t>
            </a:r>
            <a:r>
              <a:rPr b="1" lang="it-IT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oliambulatorio Viale Eu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4" descr="logo provincia"/>
          <p:cNvPicPr/>
          <p:nvPr/>
        </p:nvPicPr>
        <p:blipFill>
          <a:blip r:embed="rId1"/>
          <a:stretch/>
        </p:blipFill>
        <p:spPr>
          <a:xfrm>
            <a:off x="1835280" y="476280"/>
            <a:ext cx="6049800" cy="71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"/>
          <p:cNvPicPr/>
          <p:nvPr/>
        </p:nvPicPr>
        <p:blipFill>
          <a:blip r:embed="rId2"/>
          <a:stretch/>
        </p:blipFill>
        <p:spPr>
          <a:xfrm>
            <a:off x="611280" y="6165720"/>
            <a:ext cx="216036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216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217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220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223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"/>
          <p:cNvSpPr txBox="1"/>
          <p:nvPr/>
        </p:nvSpPr>
        <p:spPr>
          <a:xfrm>
            <a:off x="178920" y="981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NUMERO DI PUBBLICA UTILITA’ </a:t>
            </a:r>
            <a:r>
              <a:rPr b="1" lang="it-IT" sz="3200" spc="-1" strike="noStrike" u="sng">
                <a:solidFill>
                  <a:srgbClr val="ff0066"/>
                </a:solidFill>
                <a:uFillTx/>
                <a:latin typeface="Arial Rounded MT Bold"/>
              </a:rPr>
              <a:t>152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E RETE NAZIONALE ANTIVIOL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L CENTRO ANTIVIOLENZA DELLA PROVINCIA DEL MEDIO CAMPIDANO A PARTIRE DAL MESE DI MAGGIO 2011 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’ ENTRATO A FAR PARTE DELLA RETE NAZIONALE ANTIVIOLENZA CON IL NUMERO VERDE 1522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AL 2006 IL DIPARTIMENTO PER LE PARI OPPORTUNITÀ HA SVILUPPATO, MEDIANTE L’ATTIVAZIONE DEL NUMERO DI PUBBLICA UTILITÀ 152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'AMPIA AZIONE DI SISTEMA PER L'EMERSIONE E IL CONTRASTO DEL FENOMENO DELLA VIOLENZA INTRA ED EXTRA FAMILIARE A DANNO DELLE D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ATO E PENSATO COME SERVIZIO PUBBLICO  NELL'INTENTO DI FORNIRE ASCOLTO E SOSTEGNO  ALLE DONNE VITTIME DI VIOLENZA,  IL NUMERO È ATTIVO 24 ORE SU 24 PER TUTTI I GIORNI DELL'ANNO ED È ACCESSIBILE DALL'INTERO TERRITORIO NAZIONALE GRATUITAMENTE, SIA DA RETE FISSA CHE MO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4" descr="logo provincia"/>
          <p:cNvPicPr/>
          <p:nvPr/>
        </p:nvPicPr>
        <p:blipFill>
          <a:blip r:embed="rId1"/>
          <a:stretch/>
        </p:blipFill>
        <p:spPr>
          <a:xfrm>
            <a:off x="1763640" y="189000"/>
            <a:ext cx="5761080" cy="582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184788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229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230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233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236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LA CARTA DEI SERVI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Rounded MT Bold"/>
              </a:rPr>
              <a:t>IL SERVIZIO HA PUBBLICATO IN QUESTI ME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Rounded MT Bold"/>
              </a:rPr>
              <a:t>UNA PROPRIA CARTA DEI SERVIZ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Rounded MT Bold"/>
              </a:rPr>
              <a:t>IMPORTANTE STRUMENTO OPERATIVO PER I CITTADIN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Rounded MT Bold"/>
              </a:rPr>
              <a:t>IN CUI VENGONO ILLUSTRATI GLI IMPEG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Rounded MT Bold"/>
              </a:rPr>
              <a:t>CHE IL CENTRO ANTIVIOLENZA INTENDE PORTARE AVA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Rounded MT Bold"/>
              </a:rPr>
              <a:t>A GARANZIA DI UN SERVIZ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Rounded MT Bold"/>
              </a:rPr>
              <a:t>IL PIU’ POSSIBILE EFFICIENTE ED IMPRONT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Rounded MT Bold"/>
              </a:rPr>
              <a:t>AI BISOGNI DELLE PERSONE A CUI SI RIVOLGE.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4" descr="logo provincia"/>
          <p:cNvPicPr/>
          <p:nvPr/>
        </p:nvPicPr>
        <p:blipFill>
          <a:blip r:embed="rId1"/>
          <a:stretch/>
        </p:blipFill>
        <p:spPr>
          <a:xfrm>
            <a:off x="1665360" y="333360"/>
            <a:ext cx="5786280" cy="719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201600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242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243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246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249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 u="sng">
                <a:solidFill>
                  <a:srgbClr val="ff0066"/>
                </a:solidFill>
                <a:uFillTx/>
                <a:latin typeface="Arial Rounded MT Bold"/>
              </a:rPr>
              <a:t>ACCESSI</a:t>
            </a:r>
            <a:r>
              <a:rPr b="1" lang="it-IT" sz="4000" spc="-1" strike="noStrike">
                <a:solidFill>
                  <a:srgbClr val="ff0066"/>
                </a:solidFill>
                <a:latin typeface="Arial Rounded MT Bold"/>
              </a:rPr>
              <a:t> </a:t>
            </a:r>
            <a:br>
              <a:rPr sz="4000"/>
            </a:br>
            <a:r>
              <a:rPr b="1" lang="it-IT" sz="2400" spc="-1" strike="noStrike">
                <a:solidFill>
                  <a:srgbClr val="ff0066"/>
                </a:solidFill>
                <a:latin typeface="Arial Rounded MT Bold"/>
              </a:rPr>
              <a:t>AL CENTRO ANTIVIOLENZA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000" y="2923920"/>
            <a:ext cx="84358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 12 ottobre 2011 al 22 ottobr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Centro Antiviole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ha ricevu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37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accessi di cui 24 prese in ca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(12 attualmente in car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4" descr="logo provincia"/>
          <p:cNvPicPr/>
          <p:nvPr/>
        </p:nvPicPr>
        <p:blipFill>
          <a:blip r:embed="rId1"/>
          <a:stretch/>
        </p:blipFill>
        <p:spPr>
          <a:xfrm>
            <a:off x="1665360" y="333360"/>
            <a:ext cx="5786280" cy="7192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6"/>
          <p:cNvSpPr/>
          <p:nvPr/>
        </p:nvSpPr>
        <p:spPr>
          <a:xfrm>
            <a:off x="-449280" y="-65232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8" descr=""/>
          <p:cNvPicPr/>
          <p:nvPr/>
        </p:nvPicPr>
        <p:blipFill>
          <a:blip r:embed="rId2"/>
          <a:stretch/>
        </p:blipFill>
        <p:spPr>
          <a:xfrm>
            <a:off x="468360" y="6093000"/>
            <a:ext cx="201600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1"/>
          <p:cNvGrpSpPr/>
          <p:nvPr/>
        </p:nvGrpSpPr>
        <p:grpSpPr>
          <a:xfrm>
            <a:off x="-2595600" y="-1256760"/>
            <a:ext cx="5191200" cy="5193360"/>
            <a:chOff x="-2595600" y="-1256760"/>
            <a:chExt cx="5191200" cy="5193360"/>
          </a:xfrm>
        </p:grpSpPr>
        <p:sp>
          <p:nvSpPr>
            <p:cNvPr id="257" name="Oval 22"/>
            <p:cNvSpPr/>
            <p:nvPr/>
          </p:nvSpPr>
          <p:spPr>
            <a:xfrm rot="2735400">
              <a:off x="-1871640" y="-459720"/>
              <a:ext cx="3743640" cy="359964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23"/>
            <p:cNvSpPr/>
            <p:nvPr/>
          </p:nvSpPr>
          <p:spPr>
            <a:xfrm rot="2735400">
              <a:off x="-1293840" y="93960"/>
              <a:ext cx="2588040" cy="249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c0569"/>
                </a:solidFill>
                <a:latin typeface="Arial"/>
              </a:rPr>
              <a:t>ETA’</a:t>
            </a:r>
            <a:br>
              <a:rPr sz="40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e donne che hanno avuto accesso  al serv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79280" y="2060640"/>
            <a:ext cx="342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5-25 anni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6-35 anni: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36-45 anni: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46-55 anni: 15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56-65 anni: 1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1"/>
          <a:stretch/>
        </p:blipFill>
        <p:spPr>
          <a:xfrm>
            <a:off x="3995640" y="2565360"/>
            <a:ext cx="381636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210440" cy="463392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17"/>
          <p:cNvGrpSpPr/>
          <p:nvPr/>
        </p:nvGrpSpPr>
        <p:grpSpPr>
          <a:xfrm>
            <a:off x="-2595600" y="-1256760"/>
            <a:ext cx="5191200" cy="5193360"/>
            <a:chOff x="-2595600" y="-1256760"/>
            <a:chExt cx="5191200" cy="5193360"/>
          </a:xfrm>
        </p:grpSpPr>
        <p:sp>
          <p:nvSpPr>
            <p:cNvPr id="264" name="Oval 18"/>
            <p:cNvSpPr/>
            <p:nvPr/>
          </p:nvSpPr>
          <p:spPr>
            <a:xfrm rot="2735400">
              <a:off x="-1871640" y="-459720"/>
              <a:ext cx="3743640" cy="359964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 rot="2735400">
              <a:off x="-1293840" y="93960"/>
              <a:ext cx="2588040" cy="249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c0569"/>
                </a:solidFill>
                <a:latin typeface="Arial"/>
              </a:rPr>
              <a:t>TITOLO DI STUDIO</a:t>
            </a:r>
            <a:br>
              <a:rPr sz="40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e donne che hanno avuto accesso  al servizio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367320" cy="462276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5"/>
          <p:cNvGrpSpPr/>
          <p:nvPr/>
        </p:nvGrpSpPr>
        <p:grpSpPr>
          <a:xfrm>
            <a:off x="-2595600" y="-1256760"/>
            <a:ext cx="5191200" cy="5193360"/>
            <a:chOff x="-2595600" y="-1256760"/>
            <a:chExt cx="5191200" cy="5193360"/>
          </a:xfrm>
        </p:grpSpPr>
        <p:sp>
          <p:nvSpPr>
            <p:cNvPr id="269" name="Oval 16"/>
            <p:cNvSpPr/>
            <p:nvPr/>
          </p:nvSpPr>
          <p:spPr>
            <a:xfrm rot="2735400">
              <a:off x="-1871640" y="-459720"/>
              <a:ext cx="3743640" cy="359964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7"/>
            <p:cNvSpPr/>
            <p:nvPr/>
          </p:nvSpPr>
          <p:spPr>
            <a:xfrm rot="2735400">
              <a:off x="-1293840" y="93960"/>
              <a:ext cx="2588040" cy="249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c0569"/>
                </a:solidFill>
                <a:latin typeface="Arial"/>
              </a:rPr>
              <a:t>STATO CIVILE</a:t>
            </a:r>
            <a:br>
              <a:rPr sz="40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e donne che hanno avuto accesso  al serviz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6"/>
          <p:cNvGrpSpPr/>
          <p:nvPr/>
        </p:nvGrpSpPr>
        <p:grpSpPr>
          <a:xfrm>
            <a:off x="-2632320" y="-1256400"/>
            <a:ext cx="13646520" cy="10344240"/>
            <a:chOff x="-2632320" y="-1256400"/>
            <a:chExt cx="13646520" cy="10344240"/>
          </a:xfrm>
        </p:grpSpPr>
        <p:grpSp>
          <p:nvGrpSpPr>
            <p:cNvPr id="62" name="Group 7"/>
            <p:cNvGrpSpPr/>
            <p:nvPr/>
          </p:nvGrpSpPr>
          <p:grpSpPr>
            <a:xfrm>
              <a:off x="-2632320" y="-1256400"/>
              <a:ext cx="5190840" cy="5193000"/>
              <a:chOff x="-2632320" y="-1256400"/>
              <a:chExt cx="5190840" cy="5193000"/>
            </a:xfrm>
          </p:grpSpPr>
          <p:sp>
            <p:nvSpPr>
              <p:cNvPr id="63" name="Oval 8"/>
              <p:cNvSpPr/>
              <p:nvPr/>
            </p:nvSpPr>
            <p:spPr>
              <a:xfrm rot="2735400">
                <a:off x="-1908360" y="-459360"/>
                <a:ext cx="3743640" cy="359928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 rot="2735400">
                <a:off x="-1330920" y="94320"/>
                <a:ext cx="2588040" cy="248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4103640" y="2637000"/>
              <a:ext cx="6910560" cy="6450840"/>
              <a:chOff x="4103640" y="2637000"/>
              <a:chExt cx="6910560" cy="6450840"/>
            </a:xfrm>
          </p:grpSpPr>
          <p:sp>
            <p:nvSpPr>
              <p:cNvPr id="66" name="Oval 11"/>
              <p:cNvSpPr/>
              <p:nvPr/>
            </p:nvSpPr>
            <p:spPr>
              <a:xfrm>
                <a:off x="4103640" y="2637000"/>
                <a:ext cx="691056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2"/>
              <p:cNvSpPr/>
              <p:nvPr/>
            </p:nvSpPr>
            <p:spPr>
              <a:xfrm>
                <a:off x="5168520" y="3630960"/>
                <a:ext cx="477792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13"/>
            <p:cNvGrpSpPr/>
            <p:nvPr/>
          </p:nvGrpSpPr>
          <p:grpSpPr>
            <a:xfrm>
              <a:off x="7107840" y="5209560"/>
              <a:ext cx="1120320" cy="1119960"/>
              <a:chOff x="7107840" y="5209560"/>
              <a:chExt cx="1120320" cy="1119960"/>
            </a:xfrm>
          </p:grpSpPr>
          <p:sp>
            <p:nvSpPr>
              <p:cNvPr id="69" name="Oval 14"/>
              <p:cNvSpPr/>
              <p:nvPr/>
            </p:nvSpPr>
            <p:spPr>
              <a:xfrm rot="2735400">
                <a:off x="7271640" y="5373360"/>
                <a:ext cx="792000" cy="79200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5"/>
              <p:cNvSpPr/>
              <p:nvPr/>
            </p:nvSpPr>
            <p:spPr>
              <a:xfrm rot="2735400">
                <a:off x="739404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26920" y="2709360"/>
            <a:ext cx="76327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ERRAMANNA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UNEDI’ DALLE 9.00 ALLE 12.00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ONNOSFANADIG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RTEDI’ DALLE 15.00 ALLE 18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NAMATRONA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RCOLEDI’ DALLE 9.00 ALLE 12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ERRENTI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RCOLEDI’ DALLE 15.00 ALLE 18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AN GAVIN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GIOVEDI’ DALLE 9.00 ALLE 12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USPINI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ERDI’ DALLE 15.00 ALLE 18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64216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Arial Rounded MT Bold"/>
              </a:rPr>
              <a:t>ORARI DEL CENTRO ANTIVIOL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logo provincia"/>
          <p:cNvPicPr/>
          <p:nvPr/>
        </p:nvPicPr>
        <p:blipFill>
          <a:blip r:embed="rId1"/>
          <a:stretch/>
        </p:blipFill>
        <p:spPr>
          <a:xfrm>
            <a:off x="1979640" y="620640"/>
            <a:ext cx="5400720" cy="647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187164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8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585120" cy="512136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6"/>
          <p:cNvGrpSpPr/>
          <p:nvPr/>
        </p:nvGrpSpPr>
        <p:grpSpPr>
          <a:xfrm>
            <a:off x="-2595600" y="-1256760"/>
            <a:ext cx="5191200" cy="5193360"/>
            <a:chOff x="-2595600" y="-1256760"/>
            <a:chExt cx="5191200" cy="5193360"/>
          </a:xfrm>
        </p:grpSpPr>
        <p:sp>
          <p:nvSpPr>
            <p:cNvPr id="274" name="Oval 7"/>
            <p:cNvSpPr/>
            <p:nvPr/>
          </p:nvSpPr>
          <p:spPr>
            <a:xfrm rot="2735400">
              <a:off x="-1871640" y="-459720"/>
              <a:ext cx="3743640" cy="359964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 rot="2735400">
              <a:off x="-1293840" y="93960"/>
              <a:ext cx="2588040" cy="249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c0569"/>
                </a:solidFill>
                <a:latin typeface="Arial"/>
              </a:rPr>
              <a:t>PROFESSIONE</a:t>
            </a:r>
            <a:br>
              <a:rPr sz="40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e donne che hanno avuto accesso  al servizio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6"/>
          <p:cNvGrpSpPr/>
          <p:nvPr/>
        </p:nvGrpSpPr>
        <p:grpSpPr>
          <a:xfrm>
            <a:off x="-2595600" y="-1256760"/>
            <a:ext cx="5191200" cy="5193360"/>
            <a:chOff x="-2595600" y="-1256760"/>
            <a:chExt cx="5191200" cy="5193360"/>
          </a:xfrm>
        </p:grpSpPr>
        <p:sp>
          <p:nvSpPr>
            <p:cNvPr id="278" name="Oval 17"/>
            <p:cNvSpPr/>
            <p:nvPr/>
          </p:nvSpPr>
          <p:spPr>
            <a:xfrm rot="2735400">
              <a:off x="-1871640" y="-459720"/>
              <a:ext cx="3743640" cy="359964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8"/>
            <p:cNvSpPr/>
            <p:nvPr/>
          </p:nvSpPr>
          <p:spPr>
            <a:xfrm rot="2735400">
              <a:off x="-1293840" y="93960"/>
              <a:ext cx="2588040" cy="249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c0569"/>
                </a:solidFill>
                <a:latin typeface="Arial"/>
              </a:rPr>
              <a:t>ETA’ FIGLI</a:t>
            </a:r>
            <a:br>
              <a:rPr sz="40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e donne che hanno avuto accesso  al serv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11280" y="2349360"/>
            <a:ext cx="547200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 figli minorenni: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 figli minorenni e maggiorenni: 7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 figli maggiorenni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o non registrato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"/>
          <p:cNvPicPr/>
          <p:nvPr/>
        </p:nvPicPr>
        <p:blipFill>
          <a:blip r:embed="rId1"/>
          <a:stretch/>
        </p:blipFill>
        <p:spPr>
          <a:xfrm>
            <a:off x="5796000" y="2852640"/>
            <a:ext cx="2592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4"/>
          <p:cNvGrpSpPr/>
          <p:nvPr/>
        </p:nvGrpSpPr>
        <p:grpSpPr>
          <a:xfrm>
            <a:off x="-2595600" y="-1256760"/>
            <a:ext cx="5191200" cy="5193360"/>
            <a:chOff x="-2595600" y="-1256760"/>
            <a:chExt cx="5191200" cy="5193360"/>
          </a:xfrm>
        </p:grpSpPr>
        <p:sp>
          <p:nvSpPr>
            <p:cNvPr id="284" name="Oval 15"/>
            <p:cNvSpPr/>
            <p:nvPr/>
          </p:nvSpPr>
          <p:spPr>
            <a:xfrm rot="2735400">
              <a:off x="-1871640" y="-459720"/>
              <a:ext cx="3743640" cy="359964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6"/>
            <p:cNvSpPr/>
            <p:nvPr/>
          </p:nvSpPr>
          <p:spPr>
            <a:xfrm rot="2735400">
              <a:off x="-1293840" y="93960"/>
              <a:ext cx="2588040" cy="249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c0569"/>
                </a:solidFill>
                <a:latin typeface="Arial"/>
              </a:rPr>
              <a:t>TIPOLOGIA VIOLENZA SUB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2247840" y="1503360"/>
            <a:ext cx="491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95280" y="2276640"/>
            <a:ext cx="3529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motivazione degli accessi è riconducibile a quattro categorie principali di viol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324000" y="5445000"/>
            <a:ext cx="3456000" cy="1008720"/>
          </a:xfrm>
          <a:prstGeom prst="rect">
            <a:avLst/>
          </a:prstGeom>
          <a:solidFill>
            <a:srgbClr val="faf6a4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66"/>
                </a:solidFill>
                <a:latin typeface="Arial"/>
              </a:rPr>
              <a:t>In molti casi,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Arial"/>
              </a:rPr>
              <a:t>i tipi di violenze perpetrate coesist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1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485604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799320" cy="4039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7"/>
          <p:cNvGrpSpPr/>
          <p:nvPr/>
        </p:nvGrpSpPr>
        <p:grpSpPr>
          <a:xfrm>
            <a:off x="-2595600" y="-1256760"/>
            <a:ext cx="5191200" cy="5193360"/>
            <a:chOff x="-2595600" y="-1256760"/>
            <a:chExt cx="5191200" cy="5193360"/>
          </a:xfrm>
        </p:grpSpPr>
        <p:sp>
          <p:nvSpPr>
            <p:cNvPr id="293" name="Oval 8"/>
            <p:cNvSpPr/>
            <p:nvPr/>
          </p:nvSpPr>
          <p:spPr>
            <a:xfrm rot="2735400">
              <a:off x="-1871640" y="-459720"/>
              <a:ext cx="3743640" cy="359964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9"/>
            <p:cNvSpPr/>
            <p:nvPr/>
          </p:nvSpPr>
          <p:spPr>
            <a:xfrm rot="2735400">
              <a:off x="-1293840" y="93960"/>
              <a:ext cx="2588040" cy="249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468720" y="476280"/>
            <a:ext cx="961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it-IT" sz="3200" spc="-1" strike="noStrike">
                <a:solidFill>
                  <a:srgbClr val="0c0569"/>
                </a:solidFill>
                <a:latin typeface="Arial"/>
              </a:rPr>
              <a:t>L’AUTORE DELLA VIOLENZA</a:t>
            </a:r>
            <a:br>
              <a:rPr sz="3200"/>
            </a:b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5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297" name="Group 6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298" name="Oval 7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8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9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301" name="Oval 10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11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2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304" name="Oval 13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14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c0569"/>
                </a:solidFill>
                <a:latin typeface="Arial"/>
              </a:rPr>
              <a:t>TIPOLOGIA DI CONSULENZA RICHIESTA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8360" y="2133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Centro fornisce alle pers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he accedono tre tipi di consulenz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sulenza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sulenza psic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sulenza leg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8" descr=""/>
          <p:cNvPicPr/>
          <p:nvPr/>
        </p:nvPicPr>
        <p:blipFill>
          <a:blip r:embed="rId1"/>
          <a:stretch/>
        </p:blipFill>
        <p:spPr>
          <a:xfrm>
            <a:off x="611280" y="6021360"/>
            <a:ext cx="2160360" cy="4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310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311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314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317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c0569"/>
                </a:solidFill>
                <a:latin typeface="Arial"/>
              </a:rPr>
              <a:t>TIPOLOGIA DI CONSULENZA RICHIESTA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c0569"/>
                </a:solidFill>
                <a:uFillTx/>
                <a:latin typeface="Arial"/>
              </a:rPr>
              <a:t>Consulenza soc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prima consulenza del Centro Antiviol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eneralmente è di tipo 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d è finalizzata all’accogl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la eventuale presa in carico 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a una prima valutazione del bisogn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8" descr=""/>
          <p:cNvPicPr/>
          <p:nvPr/>
        </p:nvPicPr>
        <p:blipFill>
          <a:blip r:embed="rId1"/>
          <a:stretch/>
        </p:blipFill>
        <p:spPr>
          <a:xfrm>
            <a:off x="755640" y="6021360"/>
            <a:ext cx="2160720" cy="4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323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324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327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330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c0569"/>
                </a:solidFill>
                <a:latin typeface="Arial"/>
              </a:rPr>
              <a:t>TIPOLOGIA DI CONSULENZA RICHIESTA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c0569"/>
                </a:solidFill>
                <a:uFillTx/>
                <a:latin typeface="Arial"/>
              </a:rPr>
              <a:t>Consulenza psic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consulenza psicolog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iene garantita come sosteg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per permettere alle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raggiungimento della consapevole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lla situazione di violenza che stanno sub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8" descr=""/>
          <p:cNvPicPr/>
          <p:nvPr/>
        </p:nvPicPr>
        <p:blipFill>
          <a:blip r:embed="rId1"/>
          <a:stretch/>
        </p:blipFill>
        <p:spPr>
          <a:xfrm>
            <a:off x="684360" y="6093000"/>
            <a:ext cx="216036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336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337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340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343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c0569"/>
                </a:solidFill>
                <a:latin typeface="Arial"/>
              </a:rPr>
              <a:t>TIPOLOGIA DI CONSULENZA RICHIESTA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8000" y="213372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c0569"/>
                </a:solidFill>
                <a:uFillTx/>
                <a:latin typeface="Arial"/>
              </a:rPr>
              <a:t>Consulenza leg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consulenza legale è molto richiesta dalle donne perché permette l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avere delle informazioni pratic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le rassicura da un punto di vista leg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irca il percorso che dovranno affron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riuscire ad allontanar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lla situazione di violenza che stanno viv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8" descr=""/>
          <p:cNvPicPr/>
          <p:nvPr/>
        </p:nvPicPr>
        <p:blipFill>
          <a:blip r:embed="rId1"/>
          <a:stretch/>
        </p:blipFill>
        <p:spPr>
          <a:xfrm>
            <a:off x="611280" y="6237360"/>
            <a:ext cx="201780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8"/>
          <p:cNvGrpSpPr/>
          <p:nvPr/>
        </p:nvGrpSpPr>
        <p:grpSpPr>
          <a:xfrm>
            <a:off x="-2595600" y="-1256760"/>
            <a:ext cx="5191200" cy="5193360"/>
            <a:chOff x="-2595600" y="-1256760"/>
            <a:chExt cx="5191200" cy="5193360"/>
          </a:xfrm>
        </p:grpSpPr>
        <p:sp>
          <p:nvSpPr>
            <p:cNvPr id="349" name="Oval 9"/>
            <p:cNvSpPr/>
            <p:nvPr/>
          </p:nvSpPr>
          <p:spPr>
            <a:xfrm rot="2735400">
              <a:off x="-1871640" y="-459720"/>
              <a:ext cx="3743640" cy="359964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 rot="2735400">
              <a:off x="-1293840" y="93960"/>
              <a:ext cx="2588040" cy="249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2"/>
          <p:cNvSpPr/>
          <p:nvPr/>
        </p:nvSpPr>
        <p:spPr>
          <a:xfrm>
            <a:off x="39528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c0569"/>
                </a:solidFill>
                <a:latin typeface="Arial"/>
              </a:rPr>
              <a:t>TIPOLOGIA DI CONSULENZA RICHI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537080" cy="43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7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2233440" cy="288468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0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355" name="Group 11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356" name="Oval 12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14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359" name="Oval 15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6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17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362" name="Oval 18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19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c0569"/>
                </a:solidFill>
                <a:latin typeface="Arial"/>
              </a:rPr>
              <a:t>COME L’UTENZA E’ VENUTA A CONOSCENZA DEL SERVIZIO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332000" y="2781000"/>
            <a:ext cx="78120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ramite i servizi del territorio (Servizi Social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ultori, etc):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. 28 c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ramite la visione del materiale pubblicitario (brochu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ocandine, articolo dell’Unione Sarda, etc.): n. 7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 esperienza diretta o per sentito dire: n. 2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8" descr=""/>
          <p:cNvPicPr/>
          <p:nvPr/>
        </p:nvPicPr>
        <p:blipFill>
          <a:blip r:embed="rId2"/>
          <a:stretch/>
        </p:blipFill>
        <p:spPr>
          <a:xfrm>
            <a:off x="539640" y="6308640"/>
            <a:ext cx="180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4"/>
          <p:cNvGrpSpPr/>
          <p:nvPr/>
        </p:nvGrpSpPr>
        <p:grpSpPr>
          <a:xfrm>
            <a:off x="-2595600" y="-1256760"/>
            <a:ext cx="5191200" cy="5193360"/>
            <a:chOff x="-2595600" y="-1256760"/>
            <a:chExt cx="5191200" cy="5193360"/>
          </a:xfrm>
        </p:grpSpPr>
        <p:sp>
          <p:nvSpPr>
            <p:cNvPr id="76" name="Oval 15"/>
            <p:cNvSpPr/>
            <p:nvPr/>
          </p:nvSpPr>
          <p:spPr>
            <a:xfrm rot="2735400">
              <a:off x="-1871640" y="-459720"/>
              <a:ext cx="3743640" cy="359964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6"/>
            <p:cNvSpPr/>
            <p:nvPr/>
          </p:nvSpPr>
          <p:spPr>
            <a:xfrm rot="2735400">
              <a:off x="-1293840" y="93960"/>
              <a:ext cx="2588040" cy="249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79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80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83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86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690120"/>
            <a:ext cx="807912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Regione autonoma della Sardegna con la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EGGE REGIONALE N.8 DEL 7 AGOSTO 2007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 al fine di garantire adeguata solidarietà, sostegno e soccorso alle donne vittime di violenza ed ai loro figli minori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FINANZI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centri antiviolenza e case di accoglie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gione riconosce che la violenza sulle donne è violenza di genere e che costituisce un attacco all'inviolabilità della persona ed alla sua libertà, secondo i principi sanciti dalla Costituzione e dalle vigenti leg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e vittime di violenza e ai loro figli minori è assicurato un sostegno per consentire loro di ripristinare la propria autonoma individualità e di riconquistare la propria libertà, nel pieno rispetto della riservatezza e dell'anonim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gione, ai sensi della legge 4 aprile 2001, n. 154, e della legge 8 novembre 2000, n. 328, promuove e coordina iniziative per contrastare la violenza di genere intervenendo con azioni efficaci contro la violenza sessuale, fisica, psicologica e/o economica, i maltrattamenti, le molestie e i ricatti a sfondo sessuale e non, in tutti gli ambiti sociali, a partire da quello famili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logo provincia"/>
          <p:cNvPicPr/>
          <p:nvPr/>
        </p:nvPicPr>
        <p:blipFill>
          <a:blip r:embed="rId1"/>
          <a:stretch/>
        </p:blipFill>
        <p:spPr>
          <a:xfrm>
            <a:off x="1979640" y="620640"/>
            <a:ext cx="540072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202248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6"/>
          <p:cNvGrpSpPr/>
          <p:nvPr/>
        </p:nvGrpSpPr>
        <p:grpSpPr>
          <a:xfrm>
            <a:off x="-2560680" y="-1256760"/>
            <a:ext cx="13646880" cy="10344600"/>
            <a:chOff x="-2560680" y="-1256760"/>
            <a:chExt cx="13646880" cy="10344600"/>
          </a:xfrm>
        </p:grpSpPr>
        <p:grpSp>
          <p:nvGrpSpPr>
            <p:cNvPr id="93" name="Group 7"/>
            <p:cNvGrpSpPr/>
            <p:nvPr/>
          </p:nvGrpSpPr>
          <p:grpSpPr>
            <a:xfrm>
              <a:off x="-2560680" y="-1256760"/>
              <a:ext cx="5191200" cy="5193360"/>
              <a:chOff x="-2560680" y="-1256760"/>
              <a:chExt cx="5191200" cy="5193360"/>
            </a:xfrm>
          </p:grpSpPr>
          <p:sp>
            <p:nvSpPr>
              <p:cNvPr id="94" name="Oval 8"/>
              <p:cNvSpPr/>
              <p:nvPr/>
            </p:nvSpPr>
            <p:spPr>
              <a:xfrm rot="2735400">
                <a:off x="-183672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9"/>
              <p:cNvSpPr/>
              <p:nvPr/>
            </p:nvSpPr>
            <p:spPr>
              <a:xfrm rot="2735400">
                <a:off x="-125892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10"/>
            <p:cNvGrpSpPr/>
            <p:nvPr/>
          </p:nvGrpSpPr>
          <p:grpSpPr>
            <a:xfrm>
              <a:off x="4175280" y="2637000"/>
              <a:ext cx="6910920" cy="6450840"/>
              <a:chOff x="4175280" y="2637000"/>
              <a:chExt cx="6910920" cy="6450840"/>
            </a:xfrm>
          </p:grpSpPr>
          <p:sp>
            <p:nvSpPr>
              <p:cNvPr id="97" name="Oval 11"/>
              <p:cNvSpPr/>
              <p:nvPr/>
            </p:nvSpPr>
            <p:spPr>
              <a:xfrm>
                <a:off x="417528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2"/>
              <p:cNvSpPr/>
              <p:nvPr/>
            </p:nvSpPr>
            <p:spPr>
              <a:xfrm>
                <a:off x="524016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7179480" y="5209560"/>
              <a:ext cx="1120320" cy="1120320"/>
              <a:chOff x="7179480" y="5209560"/>
              <a:chExt cx="1120320" cy="1120320"/>
            </a:xfrm>
          </p:grpSpPr>
          <p:sp>
            <p:nvSpPr>
              <p:cNvPr id="100" name="Oval 14"/>
              <p:cNvSpPr/>
              <p:nvPr/>
            </p:nvSpPr>
            <p:spPr>
              <a:xfrm rot="2735400">
                <a:off x="734328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5"/>
              <p:cNvSpPr/>
              <p:nvPr/>
            </p:nvSpPr>
            <p:spPr>
              <a:xfrm rot="2735400">
                <a:off x="746568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6560" y="690120"/>
            <a:ext cx="807912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820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ATTIVITÀ DEL CENTRO ANTIVIOLENZ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Colloqui preliminar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er individuare i bisogni e fornire le prime indicazioni util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Percorsi personalizzat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di uscita dalla spirale della violenz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Colloqui informativi di carattere legal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Affiancamento della donn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, qualora la stessa lo richieda, nella fruizione dei serv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ubblici o privati, nel rispetto dell’identità culturale e della libera scelta di ognu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Raccolta e analisi dei dat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relativi all’accoglienz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Formazione e aggiornament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delle operatrici dei centri e degli operatori   soci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stituzional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Iniziative culturali di prevenzione, di pubblicizzazione, di sensibilizzazion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nuncia in merito al problema della violenza contro le don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)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Raccolta di documentazion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sul fenomeno della violenza sulle donne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logo provincia"/>
          <p:cNvPicPr/>
          <p:nvPr/>
        </p:nvPicPr>
        <p:blipFill>
          <a:blip r:embed="rId1"/>
          <a:stretch/>
        </p:blipFill>
        <p:spPr>
          <a:xfrm>
            <a:off x="1619280" y="260280"/>
            <a:ext cx="6049800" cy="57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208908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8"/>
          <p:cNvGrpSpPr/>
          <p:nvPr/>
        </p:nvGrpSpPr>
        <p:grpSpPr>
          <a:xfrm>
            <a:off x="-2919600" y="-2409480"/>
            <a:ext cx="5191200" cy="5193360"/>
            <a:chOff x="-2919600" y="-2409480"/>
            <a:chExt cx="5191200" cy="5193360"/>
          </a:xfrm>
        </p:grpSpPr>
        <p:sp>
          <p:nvSpPr>
            <p:cNvPr id="107" name="Oval 9"/>
            <p:cNvSpPr/>
            <p:nvPr/>
          </p:nvSpPr>
          <p:spPr>
            <a:xfrm rot="2735400">
              <a:off x="-2196000" y="-1612440"/>
              <a:ext cx="3744000" cy="3599280"/>
            </a:xfrm>
            <a:prstGeom prst="ellipse">
              <a:avLst/>
            </a:prstGeom>
            <a:gradFill rotWithShape="0">
              <a:gsLst>
                <a:gs pos="0">
                  <a:srgbClr val="faf6a4"/>
                </a:gs>
                <a:gs pos="100000">
                  <a:srgbClr val="fdcff2"/>
                </a:gs>
              </a:gsLst>
              <a:lin ang="5400000"/>
            </a:gradFill>
            <a:ln w="9360">
              <a:solidFill>
                <a:srgbClr val="faf6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 rot="2735400">
              <a:off x="-1618560" y="-1058400"/>
              <a:ext cx="2588400" cy="248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66"/>
                </a:solidFill>
                <a:latin typeface="Arial Rounded MT Bold"/>
              </a:rPr>
              <a:t>CONVEGNI E SEMINARI</a:t>
            </a:r>
            <a:br>
              <a:rPr sz="40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es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184960" cy="46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9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112" name="Group 10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113" name="Oval 11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2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3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116" name="Oval 14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5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6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119" name="Oval 17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8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 txBox="1"/>
          <p:nvPr/>
        </p:nvSpPr>
        <p:spPr>
          <a:xfrm>
            <a:off x="178920" y="836640"/>
            <a:ext cx="87138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OBIETTIVI DEL CENTRO ANTIVIOLE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ttivare un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ervizio gratuito di accoglienz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er le donne in difficol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arantire uno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pazio di ascolt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specifico per donne che subiscono violenza che necessitano di percorsi maggiormente integrati coi Servizi Territori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abilizzare e ampliar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interventi rivolti ai minor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, vittime di violenza assistita, attraverso  spazi di sostegno psicolog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ensibilizzare sul fenomeno della violenz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 aumentare la consapevolezza sulle relazioni tra i generi attraverso interventi di prevenzione nelle scuole e sul territo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Creare una rete stabile con gli attori coinvolt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che si interfacciano con il fenomeno della violenza in modo da produrre azioni integrate ed efficaci di contras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Garantire una formazione continu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er le operatrici e le professioniste che lavorano e si avvicinano alla coopera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Promuovere iniziative cultural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volte alla sensibilizzazione della popol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0" descr="logo provincia"/>
          <p:cNvPicPr/>
          <p:nvPr/>
        </p:nvPicPr>
        <p:blipFill>
          <a:blip r:embed="rId1"/>
          <a:stretch/>
        </p:blipFill>
        <p:spPr>
          <a:xfrm>
            <a:off x="1763640" y="260280"/>
            <a:ext cx="5535720" cy="43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201600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125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126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129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132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 txBox="1"/>
          <p:nvPr/>
        </p:nvSpPr>
        <p:spPr>
          <a:xfrm>
            <a:off x="250560" y="1268280"/>
            <a:ext cx="849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PROMOZIONE E PUBBLICIZZAZIONE REALIZZATE ATTRAVER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deazione, pubblicazione e diffusione del materiale pubblicitario (con invio postale, telematico e di perso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tecipazione a varie manifestazioni ed eventi nel territorio provinciale e non s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parazione e svolgimento dei 3 Seminari e del Convegno e di un Seminario rivolto agli Istituti Superiori della Provincia del Medio Campid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gina web specifica inserita portale Provincia Medio Campid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ot pubblicitari emittente regionale Video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" descr="logo provincia"/>
          <p:cNvPicPr/>
          <p:nvPr/>
        </p:nvPicPr>
        <p:blipFill>
          <a:blip r:embed="rId1"/>
          <a:stretch/>
        </p:blipFill>
        <p:spPr>
          <a:xfrm>
            <a:off x="1979640" y="189000"/>
            <a:ext cx="5648400" cy="64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194472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138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139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142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145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 txBox="1"/>
          <p:nvPr/>
        </p:nvSpPr>
        <p:spPr>
          <a:xfrm>
            <a:off x="468000" y="119664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DESTINATARI E LUOGH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DELL’OPERA DI PROMOZIONE E PUBBLICIZZ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utti i servizi del territorio: Servizi Sociali, Consultori, Medici di base, Ospedali, Pediatri, Stazioni dei Carabinieri, Scuol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uoghi di frequentazione delle donne: supermercati, panifici, bottegh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occasione della festa della donna i nostri operatori, in alcune delle sedi di sportello (Guspini, San Gavino, Serramanna) hanno distribuito il materiale pubblicitario alle donne che incontravano nei diversi luoghi di ritrovo e nelle diverse manifestazioni organizzate dalle associazioni del territorio che ci hanno ospi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logo provincia"/>
          <p:cNvPicPr/>
          <p:nvPr/>
        </p:nvPicPr>
        <p:blipFill>
          <a:blip r:embed="rId1"/>
          <a:stretch/>
        </p:blipFill>
        <p:spPr>
          <a:xfrm>
            <a:off x="1619280" y="627120"/>
            <a:ext cx="6121440" cy="641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"/>
          <p:cNvPicPr/>
          <p:nvPr/>
        </p:nvPicPr>
        <p:blipFill>
          <a:blip r:embed="rId2"/>
          <a:stretch/>
        </p:blipFill>
        <p:spPr>
          <a:xfrm>
            <a:off x="611280" y="6021360"/>
            <a:ext cx="2160360" cy="4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-2595600" y="-1256760"/>
            <a:ext cx="13646880" cy="10344600"/>
            <a:chOff x="-2595600" y="-1256760"/>
            <a:chExt cx="13646880" cy="10344600"/>
          </a:xfrm>
        </p:grpSpPr>
        <p:grpSp>
          <p:nvGrpSpPr>
            <p:cNvPr id="151" name="Group 5"/>
            <p:cNvGrpSpPr/>
            <p:nvPr/>
          </p:nvGrpSpPr>
          <p:grpSpPr>
            <a:xfrm>
              <a:off x="-2595600" y="-1256760"/>
              <a:ext cx="5191200" cy="5193360"/>
              <a:chOff x="-2595600" y="-1256760"/>
              <a:chExt cx="5191200" cy="5193360"/>
            </a:xfrm>
          </p:grpSpPr>
          <p:sp>
            <p:nvSpPr>
              <p:cNvPr id="152" name="Oval 6"/>
              <p:cNvSpPr/>
              <p:nvPr/>
            </p:nvSpPr>
            <p:spPr>
              <a:xfrm rot="2735400">
                <a:off x="-1871640" y="-459720"/>
                <a:ext cx="3743640" cy="35996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"/>
              <p:cNvSpPr/>
              <p:nvPr/>
            </p:nvSpPr>
            <p:spPr>
              <a:xfrm rot="2735400">
                <a:off x="-1293840" y="93960"/>
                <a:ext cx="2588040" cy="249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8"/>
            <p:cNvGrpSpPr/>
            <p:nvPr/>
          </p:nvGrpSpPr>
          <p:grpSpPr>
            <a:xfrm>
              <a:off x="4140360" y="2637000"/>
              <a:ext cx="6910920" cy="6450840"/>
              <a:chOff x="4140360" y="2637000"/>
              <a:chExt cx="6910920" cy="6450840"/>
            </a:xfrm>
          </p:grpSpPr>
          <p:sp>
            <p:nvSpPr>
              <p:cNvPr id="155" name="Oval 9"/>
              <p:cNvSpPr/>
              <p:nvPr/>
            </p:nvSpPr>
            <p:spPr>
              <a:xfrm>
                <a:off x="4140360" y="2637000"/>
                <a:ext cx="6910920" cy="645084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0"/>
              <p:cNvSpPr/>
              <p:nvPr/>
            </p:nvSpPr>
            <p:spPr>
              <a:xfrm>
                <a:off x="5205240" y="3630960"/>
                <a:ext cx="4778280" cy="446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1"/>
            <p:cNvGrpSpPr/>
            <p:nvPr/>
          </p:nvGrpSpPr>
          <p:grpSpPr>
            <a:xfrm>
              <a:off x="7144560" y="5209560"/>
              <a:ext cx="1120320" cy="1120320"/>
              <a:chOff x="7144560" y="5209560"/>
              <a:chExt cx="1120320" cy="1120320"/>
            </a:xfrm>
          </p:grpSpPr>
          <p:sp>
            <p:nvSpPr>
              <p:cNvPr id="158" name="Oval 12"/>
              <p:cNvSpPr/>
              <p:nvPr/>
            </p:nvSpPr>
            <p:spPr>
              <a:xfrm rot="2735400">
                <a:off x="7308360" y="537336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faf6a4"/>
                  </a:gs>
                  <a:gs pos="100000">
                    <a:srgbClr val="fdcff2"/>
                  </a:gs>
                </a:gsLst>
                <a:lin ang="5400000"/>
              </a:gradFill>
              <a:ln w="9360">
                <a:solidFill>
                  <a:srgbClr val="faf6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3"/>
              <p:cNvSpPr/>
              <p:nvPr/>
            </p:nvSpPr>
            <p:spPr>
              <a:xfrm rot="2735400">
                <a:off x="7430760" y="5495400"/>
                <a:ext cx="547560" cy="5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"/>
          <p:cNvSpPr txBox="1"/>
          <p:nvPr/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66"/>
                </a:solidFill>
                <a:uFillTx/>
                <a:latin typeface="Arial Rounded MT Bold"/>
              </a:rPr>
              <a:t>PERCO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contri con l’assistente sociale, la Psicologa, e il lega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rcorsi terapeutici di sostegno personalizza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a di contatto con gli Assistenti Sociali, i servizi sanitari, le Forze dell’Ordine e gestione dei rappor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gettazione del percorso legale per l’uscita dalla violenz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ccompagnamento delle donne nelle sedi giudiziarie e nei luoghi dove operano Assistenti Sociali e Forze dell’Ordi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inserimento della donna nel tessuto socia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ccompagnamento delle donne e dei minori verso le case di accoglienza quando le donne decidono di interrompere una relazione violenta sporgendo denuncia o richiedendo la separazione, momento in cui il rischio di ulteriori atti violenti e persecutori da parte dei partner aumenta notevolm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logo provincia"/>
          <p:cNvPicPr/>
          <p:nvPr/>
        </p:nvPicPr>
        <p:blipFill>
          <a:blip r:embed="rId1"/>
          <a:stretch/>
        </p:blipFill>
        <p:spPr>
          <a:xfrm>
            <a:off x="1763640" y="260280"/>
            <a:ext cx="5535720" cy="43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2"/>
          <a:stretch/>
        </p:blipFill>
        <p:spPr>
          <a:xfrm>
            <a:off x="611280" y="6165720"/>
            <a:ext cx="2016000" cy="40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0:32:35Z</dcterms:created>
  <dc:creator>Flanella</dc:creator>
  <dc:description/>
  <dc:language>en-US</dc:language>
  <cp:lastModifiedBy>x</cp:lastModifiedBy>
  <dcterms:modified xsi:type="dcterms:W3CDTF">2012-10-28T16:34:38Z</dcterms:modified>
  <cp:revision>118</cp:revision>
  <dc:subject/>
  <dc:title>SEDI DEL CENTRO ANTIVIOLENZA</dc:title>
</cp:coreProperties>
</file>